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1E3D-150D-4A92-A798-D5D4705E0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5FED-7E54-41F3-A410-FAF399C8E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1D20-22A6-43FF-A5C8-A33677124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2FEE-9379-436A-8212-54326C1FE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C73B-44FF-4478-9772-26AA64265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DA7D-A391-4ACF-A76D-A0276F5A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7D23-1047-4029-AA92-8819D7466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BB438-7F26-438F-AAC9-6126BFB5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B1397-8994-4B00-BA31-2F1BDC9A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0605-16ED-49E0-B328-CAD2EE9A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D7AB-C067-40F1-B301-7821D9D0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A892-1DB6-47FA-8766-EC998DE9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CCB2-C110-4A36-9617-5F108604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D89F9-BCF0-42D5-8582-86531F6F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7FC8-2175-45FB-A145-5F31E569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3291-4C89-45F4-94F1-EFC4014D7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9E08A-4FBE-4C89-8228-715998451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B70C-623B-4AF9-ADE2-9F3CB928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852A-0688-48F7-9612-F9333D1E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90A0-E1FC-49F9-B466-4C72821E0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8FF5-3F76-4A8D-B48C-2D748054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69A1-002D-4288-9CD7-8858F233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6754-5197-40E7-A098-18FFC208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D82F-4A93-4F8F-A418-07B72C07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59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7670-4117-454A-AF40-857DEA0A85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0A7A-C6EE-4B18-A290-3FAF9A1D8B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59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335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Copperplate Gothic Bold"/>
              </a:rPr>
              <a:t>Acid Rain: The Problem Continues</a:t>
            </a:r>
            <a:endParaRPr b="0" lang="en-US" sz="5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143000" y="2590920"/>
            <a:ext cx="7404120" cy="39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pperplate Gothic Bold"/>
              </a:rPr>
              <a:t>What Ever Happened to Acid Rain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n the 1980’s, acid rain received a lot of media attention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lthough we don’t hear about acid rain as much these days, it is still a problem that deserves our attention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rtunately, acid rain is a problem that we can all help to solve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pperplate Gothic Bold"/>
              </a:rPr>
              <a:t>What is Acid Rain?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Copperplate Gothic Bold"/>
              </a:rPr>
              <a:t>How Does it Form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cid rain” includes both wet and dry acidic deposit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Precipitation with a pH lower than 5.6 is considered acidic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cid rain originates from sulfur dioxide and nitrogen oxide particle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Once these particles are emitted into the air they form sulfate and nitrate particles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ese particles can travel long distances on wind current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By combining with water vapor, these particles form acids which fall to the earth as acid rain. 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Copperplate Gothic Bold"/>
              </a:rPr>
              <a:t>Where do Sulfur Dioxide (SO</a:t>
            </a:r>
            <a:r>
              <a:rPr b="0" lang="en-US" sz="3600" spc="-1" strike="noStrike" baseline="-25000">
                <a:solidFill>
                  <a:srgbClr val="ccffff"/>
                </a:solidFill>
                <a:latin typeface="Copperplate Gothic Bold"/>
              </a:rPr>
              <a:t>2</a:t>
            </a:r>
            <a:r>
              <a:rPr b="0" lang="en-US" sz="3600" spc="-1" strike="noStrike">
                <a:solidFill>
                  <a:srgbClr val="ccffff"/>
                </a:solidFill>
                <a:latin typeface="Copperplate Gothic Bold"/>
              </a:rPr>
              <a:t>) and Nitrogen Oxide (NO</a:t>
            </a:r>
            <a:r>
              <a:rPr b="0" lang="en-US" sz="3600" spc="-1" strike="noStrike" baseline="-25000">
                <a:solidFill>
                  <a:srgbClr val="ccffff"/>
                </a:solidFill>
                <a:latin typeface="Copperplate Gothic Bold"/>
              </a:rPr>
              <a:t>x</a:t>
            </a:r>
            <a:r>
              <a:rPr b="0" lang="en-US" sz="3600" spc="-1" strike="noStrike">
                <a:solidFill>
                  <a:srgbClr val="ccffff"/>
                </a:solidFill>
                <a:latin typeface="Copperplate Gothic Bold"/>
              </a:rPr>
              <a:t>) Particles Come From?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ulfur dioxide and nitrogen dioxide particles are emitted from utility plants, especially coal-fed electric plant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Automobiles also emit acid rain causing pollution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143000" y="1905120"/>
            <a:ext cx="679464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pperplate Gothic Bold"/>
              </a:rPr>
              <a:t>How Does Acid Rain Effect Our Lives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Poor forest health due to acidification of soil: acid rain can kill nutrient-producing microorganism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cidification of lakes and streams can lead to the death of aquatic life, such as trout and bas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cidity can leach mercury out of the soil, causing toxic levels to build up in the fish we eat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Acid rain can erode buildings and monuments and destroy paint finishes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38080" y="5181480"/>
            <a:ext cx="2070360" cy="1689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248520" y="5181480"/>
            <a:ext cx="2603520" cy="1689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200400" y="5181480"/>
            <a:ext cx="27273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ccffff"/>
                </a:solidFill>
                <a:latin typeface="Copperplate Gothic Bold"/>
              </a:rPr>
              <a:t>What else needs </a:t>
            </a:r>
            <a:br>
              <a:rPr sz="3600"/>
            </a:br>
            <a:r>
              <a:rPr b="0" lang="en-US" sz="3600" spc="-1" strike="noStrike">
                <a:solidFill>
                  <a:srgbClr val="ccffff"/>
                </a:solidFill>
                <a:latin typeface="Copperplate Gothic Bold"/>
              </a:rPr>
              <a:t>to be done about Acid Rain ?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In 1990, an amendment to the Clean Air Act called for reductions in sulfur emission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is proved to be less effective than hoped, as acid rain still persists toda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This is largely due to 2 reasons: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1) reductions in sulfur emissions were not great enough and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2) there were no reductions in nitrogen emissions which are also implicated in forming acid rain  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pperplate Gothic Bold"/>
              </a:rPr>
              <a:t>What is Being Done </a:t>
            </a:r>
            <a:br>
              <a:rPr sz="4400"/>
            </a:br>
            <a:r>
              <a:rPr b="0" lang="en-US" sz="4400" spc="-1" strike="noStrike">
                <a:solidFill>
                  <a:srgbClr val="ccffff"/>
                </a:solidFill>
                <a:latin typeface="Copperplate Gothic Bold"/>
              </a:rPr>
              <a:t>About Acid Rain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sently, the New England Governors and eastern Canadian Premieres are working together on a solu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 International Acid Rain Steering Committee was formed and is currently discussing joint action to further reduce sulfur emissions by 50% and reduce nitrogen emissions by 30% by the year 2010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pperplate Gothic Bold"/>
              </a:rPr>
              <a:t>Can We Do Anything About Acid Rain?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YES! We can all take small actions to help solve the proble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e can help by: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using our cars les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onserving electricity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choosing electricity providers that emit lower amounts of air pollution emissions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115560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3T16:56:47Z</dcterms:created>
  <dc:creator>Deb Avalone-King</dc:creator>
  <dc:description/>
  <dc:language>en-US</dc:language>
  <cp:lastModifiedBy>dep</cp:lastModifiedBy>
  <dcterms:modified xsi:type="dcterms:W3CDTF">2003-09-04T13:17:41Z</dcterms:modified>
  <cp:revision>21</cp:revision>
  <dc:subject/>
  <dc:title>Acid Rain: The Problem Continues</dc:title>
</cp:coreProperties>
</file>